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2A4E-CBB9-49F9-AB55-B742DDC6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C4CC-782C-4415-9373-3116B338A8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10B70-0F86-4CF2-8DB1-057E454E8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9627-4672-48B4-8643-77559B24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7B4E2-DDCE-4332-9F38-60838A7C8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5AC95-CFC2-4185-BBDA-82D795F1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5FABD-0B91-4625-9F88-20E69D606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ABA08-6019-414F-8A6B-775217007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BA065-724E-49A5-AD7D-841DD46B0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C3F3F-DA68-4497-B2A7-759621823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A3A82-BD03-40DC-8FAE-AFD8B2933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B123-92CD-4B79-9B88-FE16CAE11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2DB05-AC5D-4F99-A720-A10CF3CB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71093-EA90-4FB2-BF17-2B9C552B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69F84-D378-4DDC-90EB-3081811F8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59C98-E234-4005-B1A0-BF4B06067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FF86D-DC39-4762-B9FD-37FE4B767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903D9-AC10-40B2-9B2D-95E42E300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1A653-0980-46A1-A92C-F2DA6376C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D16A8-4BC3-4EE3-B13C-D320A43E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57B4-089D-4832-97CB-650846FB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FC61F-AD82-4219-AA5E-C3001C0D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030A-3B05-429F-AFA4-08FE5F5A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2AA0-571F-43F6-AFD6-C22A37177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03F7-4AAD-4AFA-97F8-14DCAEB8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6090-69E4-42AD-A8C3-E5625E66A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9AA0-DF06-408F-89F1-C48A9025E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852A-AEA4-4B6D-B5EB-759DF4B5F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BDAE-CA4E-4A14-95EC-5A81995B9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上的税基（狭义税基）：</a:t>
            </a:r>
            <a:r>
              <a:rPr b="0" lang="zh-CN" sz="2800" spc="-1" strike="noStrike">
                <a:solidFill>
                  <a:srgbClr val="000000"/>
                </a:solidFill>
                <a:latin typeface="楷体_GB2312"/>
              </a:rPr>
              <a:t>也可以称为计税依据，在税率既定的情况下，是计算政府税收和纳税人税收负担的最重要因素。</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源：税收收入的客观来源。</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基与税源可能一致，也可能不一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745A-4D4A-4A5B-93FB-ACD656108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3" name="PlaceHolder 2"/>
          <p:cNvSpPr>
            <a:spLocks noGrp="1"/>
          </p:cNvSpPr>
          <p:nvPr>
            <p:ph/>
          </p:nvPr>
        </p:nvSpPr>
        <p:spPr>
          <a:xfrm>
            <a:off x="304920" y="1773360"/>
            <a:ext cx="8540640" cy="40939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应纳税额</a:t>
            </a:r>
            <a:r>
              <a:rPr b="0" lang="en-US" sz="3200" spc="-1" strike="noStrike">
                <a:solidFill>
                  <a:srgbClr val="000000"/>
                </a:solidFill>
                <a:latin typeface="Arial"/>
              </a:rPr>
              <a:t>/</a:t>
            </a:r>
            <a:r>
              <a:rPr b="0" lang="zh-CN" sz="3200" spc="-1" strike="noStrike">
                <a:solidFill>
                  <a:srgbClr val="000000"/>
                </a:solidFill>
                <a:latin typeface="Arial"/>
              </a:rPr>
              <a:t>课税对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形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额税率：按课税对象单位直接规定固定税额，从量非从价。</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税率：统一比例税率、差别比例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全额累进税率、超额累进税率</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AA17-7EF6-4345-867D-9580A4B3F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额累进税率和超额累进税率的比较</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全额累进税率计算简便，但累进速度比较急剧，尤其是在两个级距的临界部分，很可能出现税收增长数量超过税基的不合理现象。</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累进超额税率计算比较复杂，但累进速度平缓，可以在一定程度上弥补全额累进税率的缺陷</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4DAF-92E1-4B8C-AC87-34B02BF05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额累进税率和超额累进税率的比较</a:t>
            </a:r>
            <a:endParaRPr b="0" lang="en-US" sz="2800" spc="-1" strike="noStrike">
              <a:solidFill>
                <a:srgbClr val="cc3300"/>
              </a:solidFill>
              <a:latin typeface="Arial"/>
            </a:endParaRPr>
          </a:p>
        </p:txBody>
      </p:sp>
      <p:graphicFrame>
        <p:nvGraphicFramePr>
          <p:cNvPr id="141" name=""/>
          <p:cNvGraphicFramePr/>
          <p:nvPr/>
        </p:nvGraphicFramePr>
        <p:xfrm>
          <a:off x="395280" y="1413000"/>
          <a:ext cx="8209080" cy="1584360"/>
        </p:xfrm>
        <a:graphic>
          <a:graphicData uri="http://schemas.openxmlformats.org/drawingml/2006/table">
            <a:tbl>
              <a:tblPr/>
              <a:tblGrid>
                <a:gridCol w="2052720"/>
                <a:gridCol w="2052720"/>
                <a:gridCol w="2052360"/>
                <a:gridCol w="2051280"/>
              </a:tblGrid>
              <a:tr h="84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0, 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 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 500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r>
              <a:tr h="74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适用税率</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graphicFrame>
        <p:nvGraphicFramePr>
          <p:cNvPr id="142" name=""/>
          <p:cNvGraphicFramePr/>
          <p:nvPr/>
        </p:nvGraphicFramePr>
        <p:xfrm>
          <a:off x="395280" y="3141720"/>
          <a:ext cx="8209080" cy="2735280"/>
        </p:xfrm>
        <a:graphic>
          <a:graphicData uri="http://schemas.openxmlformats.org/drawingml/2006/table">
            <a:tbl>
              <a:tblPr/>
              <a:tblGrid>
                <a:gridCol w="1123920"/>
                <a:gridCol w="1022400"/>
                <a:gridCol w="1886040"/>
                <a:gridCol w="2089080"/>
                <a:gridCol w="20876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边际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全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超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平均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10%=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0×10%=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8.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15%=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2000×15%=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42"/>
                                        </p:tgtEl>
                                        <p:attrNameLst>
                                          <p:attrName>style.visibility</p:attrName>
                                        </p:attrNameLst>
                                      </p:cBhvr>
                                      <p:to>
                                        <p:strVal val="visible"/>
                                      </p:to>
                                    </p:set>
                                    <p:animEffect filter="barn(inHorizontal)" transition="in">
                                      <p:cBhvr additive="repl">
                                        <p:cTn id="3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8F07-EB3E-444E-93E6-A3B6A68FE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上表所示，假如应税所得额为</a:t>
            </a:r>
            <a:r>
              <a:rPr b="0" lang="en-US" sz="2800" spc="-1" strike="noStrike">
                <a:solidFill>
                  <a:srgbClr val="000000"/>
                </a:solidFill>
                <a:latin typeface="楷体_GB2312"/>
              </a:rPr>
              <a:t>3 000</a:t>
            </a:r>
            <a:r>
              <a:rPr b="0" lang="zh-CN" sz="2800" spc="-1" strike="noStrike">
                <a:solidFill>
                  <a:srgbClr val="000000"/>
                </a:solidFill>
                <a:latin typeface="楷体_GB2312"/>
              </a:rPr>
              <a:t>元，适用</a:t>
            </a:r>
            <a:r>
              <a:rPr b="0" lang="en-US" sz="2800" spc="-1" strike="noStrike">
                <a:solidFill>
                  <a:srgbClr val="000000"/>
                </a:solidFill>
                <a:latin typeface="楷体_GB2312"/>
              </a:rPr>
              <a:t>10%</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300</a:t>
            </a:r>
            <a:r>
              <a:rPr b="0" lang="zh-CN" sz="2800" spc="-1" strike="noStrike">
                <a:solidFill>
                  <a:srgbClr val="000000"/>
                </a:solidFill>
                <a:latin typeface="楷体_GB2312"/>
              </a:rPr>
              <a:t>元；假如应税所得额为</a:t>
            </a:r>
            <a:r>
              <a:rPr b="0" lang="en-US" sz="2800" spc="-1" strike="noStrike">
                <a:solidFill>
                  <a:srgbClr val="000000"/>
                </a:solidFill>
                <a:latin typeface="楷体_GB2312"/>
              </a:rPr>
              <a:t>3 001</a:t>
            </a:r>
            <a:r>
              <a:rPr b="0" lang="zh-CN" sz="2800" spc="-1" strike="noStrike">
                <a:solidFill>
                  <a:srgbClr val="000000"/>
                </a:solidFill>
                <a:latin typeface="楷体_GB2312"/>
              </a:rPr>
              <a:t>元，适用</a:t>
            </a:r>
            <a:r>
              <a:rPr b="0" lang="en-US" sz="2800" spc="-1" strike="noStrike">
                <a:solidFill>
                  <a:srgbClr val="000000"/>
                </a:solidFill>
                <a:latin typeface="楷体_GB2312"/>
              </a:rPr>
              <a:t>15%</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450.15</a:t>
            </a:r>
            <a:r>
              <a:rPr b="0" lang="zh-CN" sz="2800" spc="-1" strike="noStrike">
                <a:solidFill>
                  <a:srgbClr val="000000"/>
                </a:solidFill>
                <a:latin typeface="楷体_GB2312"/>
              </a:rPr>
              <a:t>元。这样，应税所得额只增加了</a:t>
            </a:r>
            <a:r>
              <a:rPr b="0" lang="en-US" sz="2800" spc="-1" strike="noStrike">
                <a:solidFill>
                  <a:srgbClr val="000000"/>
                </a:solidFill>
                <a:latin typeface="楷体_GB2312"/>
              </a:rPr>
              <a:t>1</a:t>
            </a:r>
            <a:r>
              <a:rPr b="0" lang="zh-CN" sz="2800" spc="-1" strike="noStrike">
                <a:solidFill>
                  <a:srgbClr val="000000"/>
                </a:solidFill>
                <a:latin typeface="楷体_GB2312"/>
              </a:rPr>
              <a:t>元，税额却要增加</a:t>
            </a:r>
            <a:r>
              <a:rPr b="0" lang="en-US" sz="2800" spc="-1" strike="noStrike">
                <a:solidFill>
                  <a:srgbClr val="000000"/>
                </a:solidFill>
                <a:latin typeface="楷体_GB2312"/>
              </a:rPr>
              <a:t>150.15</a:t>
            </a:r>
            <a:r>
              <a:rPr b="0" lang="zh-CN" sz="2800" spc="-1" strike="noStrike">
                <a:solidFill>
                  <a:srgbClr val="000000"/>
                </a:solidFill>
                <a:latin typeface="楷体_GB2312"/>
              </a:rPr>
              <a:t>元。</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F2D2-C8E5-43EA-ACE8-E99271B22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工资、薪金所得的个人所得税计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月取得工资收入后，先减去个人承担的基本养老保险金、医疗保险金、失业保险金，以及按省级政府规定标准缴纳的住房公积金，再减去费用扣除额</a:t>
            </a:r>
            <a:r>
              <a:rPr b="0" lang="en-US" sz="2800" spc="-1" strike="noStrike">
                <a:solidFill>
                  <a:srgbClr val="000000"/>
                </a:solidFill>
                <a:latin typeface="Arial"/>
              </a:rPr>
              <a:t>3500</a:t>
            </a:r>
            <a:r>
              <a:rPr b="0" lang="zh-CN" sz="2800" spc="-1" strike="noStrike">
                <a:solidFill>
                  <a:srgbClr val="000000"/>
                </a:solidFill>
                <a:latin typeface="Arial"/>
              </a:rPr>
              <a:t>元</a:t>
            </a:r>
            <a:r>
              <a:rPr b="0" lang="en-US" sz="2800" spc="-1" strike="noStrike">
                <a:solidFill>
                  <a:srgbClr val="000000"/>
                </a:solidFill>
                <a:latin typeface="Arial"/>
              </a:rPr>
              <a:t>/</a:t>
            </a:r>
            <a:r>
              <a:rPr b="0" lang="zh-CN" sz="2800" spc="-1" strike="noStrike">
                <a:solidFill>
                  <a:srgbClr val="000000"/>
                </a:solidFill>
                <a:latin typeface="Arial"/>
              </a:rPr>
              <a:t>月为应纳税所得额，按</a:t>
            </a:r>
            <a:r>
              <a:rPr b="0" lang="en-US" sz="2800" spc="-1" strike="noStrike">
                <a:solidFill>
                  <a:srgbClr val="000000"/>
                </a:solidFill>
                <a:latin typeface="Arial"/>
              </a:rPr>
              <a:t>3%</a:t>
            </a:r>
            <a:r>
              <a:rPr b="0" lang="zh-CN" sz="2800" spc="-1" strike="noStrike">
                <a:solidFill>
                  <a:srgbClr val="000000"/>
                </a:solidFill>
                <a:latin typeface="Arial"/>
              </a:rPr>
              <a:t>至</a:t>
            </a:r>
            <a:r>
              <a:rPr b="0" lang="en-US" sz="2800" spc="-1" strike="noStrike">
                <a:solidFill>
                  <a:srgbClr val="000000"/>
                </a:solidFill>
                <a:latin typeface="Arial"/>
              </a:rPr>
              <a:t>45%</a:t>
            </a:r>
            <a:r>
              <a:rPr b="0" lang="zh-CN" sz="2800" spc="-1" strike="noStrike">
                <a:solidFill>
                  <a:srgbClr val="000000"/>
                </a:solidFill>
                <a:latin typeface="Arial"/>
              </a:rPr>
              <a:t>的七级超额累进税率计算缴纳个人所得税。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AE5F-DC6C-4A16-B399-BBD493097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011</a:t>
            </a:r>
            <a:r>
              <a:rPr b="1" lang="zh-CN" sz="3200" spc="-1" strike="noStrike">
                <a:solidFill>
                  <a:srgbClr val="cc3300"/>
                </a:solidFill>
                <a:latin typeface="Arial"/>
              </a:rPr>
              <a:t>年</a:t>
            </a:r>
            <a:r>
              <a:rPr b="1" lang="en-US" sz="3200" spc="-1" strike="noStrike">
                <a:solidFill>
                  <a:srgbClr val="cc3300"/>
                </a:solidFill>
                <a:latin typeface="Arial"/>
              </a:rPr>
              <a:t>9</a:t>
            </a:r>
            <a:r>
              <a:rPr b="1" lang="zh-CN" sz="3200" spc="-1" strike="noStrike">
                <a:solidFill>
                  <a:srgbClr val="cc3300"/>
                </a:solidFill>
                <a:latin typeface="Arial"/>
              </a:rPr>
              <a:t>月</a:t>
            </a:r>
            <a:r>
              <a:rPr b="1" lang="en-US" sz="3200" spc="-1" strike="noStrike">
                <a:solidFill>
                  <a:srgbClr val="cc3300"/>
                </a:solidFill>
                <a:latin typeface="Arial"/>
              </a:rPr>
              <a:t>1</a:t>
            </a:r>
            <a:r>
              <a:rPr b="1" lang="zh-CN" sz="3200" spc="-1" strike="noStrike">
                <a:solidFill>
                  <a:srgbClr val="cc3300"/>
                </a:solidFill>
                <a:latin typeface="Arial"/>
              </a:rPr>
              <a:t>日起调整后的</a:t>
            </a:r>
            <a:br>
              <a:rPr sz="3200"/>
            </a:br>
            <a:r>
              <a:rPr b="1" lang="en-US" sz="3200" spc="-1" strike="noStrike">
                <a:solidFill>
                  <a:srgbClr val="cc3300"/>
                </a:solidFill>
                <a:latin typeface="Arial"/>
              </a:rPr>
              <a:t>7</a:t>
            </a:r>
            <a:r>
              <a:rPr b="1" lang="zh-CN" sz="3200" spc="-1" strike="noStrike">
                <a:solidFill>
                  <a:srgbClr val="cc3300"/>
                </a:solidFill>
                <a:latin typeface="Arial"/>
              </a:rPr>
              <a:t>级超额累进个人所得税税率表</a:t>
            </a:r>
            <a:r>
              <a:rPr b="0" lang="zh-CN" sz="4000" spc="-1" strike="noStrike">
                <a:solidFill>
                  <a:srgbClr val="cc3300"/>
                </a:solidFill>
                <a:latin typeface="Arial"/>
              </a:rPr>
              <a:t> </a:t>
            </a:r>
            <a:endParaRPr b="0" lang="en-US" sz="4000" spc="-1" strike="noStrike">
              <a:solidFill>
                <a:srgbClr val="cc3300"/>
              </a:solidFill>
              <a:latin typeface="Arial"/>
            </a:endParaRPr>
          </a:p>
        </p:txBody>
      </p:sp>
      <p:sp>
        <p:nvSpPr>
          <p:cNvPr id="154" name="PlaceHolder 2"/>
          <p:cNvSpPr>
            <a:spLocks noGrp="1"/>
          </p:cNvSpPr>
          <p:nvPr>
            <p:ph/>
          </p:nvPr>
        </p:nvSpPr>
        <p:spPr>
          <a:xfrm>
            <a:off x="323640" y="1844280"/>
            <a:ext cx="8515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5" name=""/>
          <p:cNvGraphicFramePr/>
          <p:nvPr/>
        </p:nvGraphicFramePr>
        <p:xfrm>
          <a:off x="611280" y="2276640"/>
          <a:ext cx="7704000" cy="3527280"/>
        </p:xfrm>
        <a:graphic>
          <a:graphicData uri="http://schemas.openxmlformats.org/drawingml/2006/table">
            <a:tbl>
              <a:tblPr/>
              <a:tblGrid>
                <a:gridCol w="961920"/>
                <a:gridCol w="3646440"/>
                <a:gridCol w="893880"/>
                <a:gridCol w="2201760"/>
              </a:tblGrid>
              <a:tr h="70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级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全月应纳税所得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税率</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算扣除法（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4796-23DB-435D-B3DD-BAE1FF576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税率的高低，直接关系到财政收入的多少和纳税人的税收负担。因此，税率被看作是税制的中心环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分析方法</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与累退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税率与平均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税率与实际税率</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E41A-6E18-4B79-83C9-4D9F3C361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税环节：税法中规定的纳税人履行纳税义务的环节，说明纳税在什么阶段发生。</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一环节的税收：如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环节的税收：如增值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确定纳税环节对于平衡税负、保证收入、便于管理等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C841-A291-4596-A7D6-0D01D878EB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调整：除税率外对纳税人税收负担的调整措施，主要包括附加与加成、减免税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与加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税与免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起征点与免征额</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D8CE-D677-4C32-8167-6B9F636C3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三章  税收概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与税制结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ABD0-CADA-4070-A1F2-32B7563AC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分类与税制结构</a:t>
            </a:r>
            <a:endParaRPr b="0" lang="en-US"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负能否转嫁为标志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直接税、间接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课税对象的性质进行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转税、所得税、财产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管理权限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税、地方税、中央和地方共享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199B-B4D9-4271-A179-F9F5B8101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计量标准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价税、从量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与价格的关系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外税、价内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税收分类：</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物税和货币税、经常税和临时税、对人税和对物税</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61BD-7407-456A-AC01-2A6D3724E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的税收分类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转税，如增值税、消费税、营业税、关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个人所得税、企业所得税、外国企业所得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房产税、契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源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F061-F1E5-4EBD-A20A-A7CC4AABC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制结构</a:t>
            </a:r>
            <a:endParaRPr b="0" lang="en-US"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税制结构，是指一国税制中税种的组合状况，它反映各个税种在整个税收收入中的地位。根据税制结构中的税种是单一的还是多种的为标准进行分类，税制可以分为单一税制与复合税制。</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单一税制，是指一个国家在一定时期内基本上只实行一种税的税收制度。</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复合税制，是指一个国家在一定时期内实行由多种税种组成的税收制度。</a:t>
            </a:r>
            <a:endParaRPr b="0" lang="en-US" sz="20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税种：指在一国税收中所占比重最大、在政府调节经济中发挥主要作用的税种，决定了一国税制的基本特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制结构模式：指由主体税体征所决定的税制结构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F2E3-6F93-4325-B5D2-D0EB0384D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制结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为主体税的税制结构模式（发展中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所得税为主体税的税制结构模式（发达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和所得税为双主体的税制结构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EB31-22B5-493C-B2E6-13B01238E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发展水平不同的国家，之所以形成不同的税制结构，主要是因为不同的税类有着不同的特点，适应于不同的社会经济财政情况的要求所决定的。</a:t>
            </a:r>
            <a:endParaRPr b="0" lang="en-US" sz="2800" spc="-1" strike="noStrike">
              <a:solidFill>
                <a:srgbClr val="000000"/>
              </a:solidFill>
              <a:latin typeface="Arial"/>
            </a:endParaRPr>
          </a:p>
          <a:p>
            <a:pPr marL="343080" indent="0" algn="just">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财政收入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税收征管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宏观经济调控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公平贫富差距的原因</a:t>
            </a:r>
            <a:endParaRPr b="0" lang="en-US" sz="26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D347-38AB-4803-A9CC-37DA5516A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a:t>
            </a:r>
            <a:endParaRPr b="0" lang="en-US" sz="4400" spc="-1" strike="noStrike">
              <a:solidFill>
                <a:srgbClr val="cc33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理论的演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5613-E6BC-43E9-BE08-9ED363DA0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规定的是政府对什么征税（课税对象）、征收多少（课税规模）、怎样 征税（课税方式和方法），</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政府在设计税制、实施税法过程中所遵循的理论准则，也是评价税收制度优劣、考核税务行政管理状况的基本标准。</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是财税学界长期以来一直关注的重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D023-0504-44D3-A5AB-5A19DCE85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理论的演变</a:t>
            </a:r>
            <a:endParaRPr b="0" lang="en-US" sz="4400" spc="-1" strike="noStrike">
              <a:solidFill>
                <a:srgbClr val="cc3300"/>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威廉</a:t>
            </a:r>
            <a:r>
              <a:rPr b="0" lang="en-US" sz="3200" spc="-1" strike="noStrike">
                <a:solidFill>
                  <a:srgbClr val="000000"/>
                </a:solidFill>
                <a:latin typeface="Arial"/>
              </a:rPr>
              <a:t>·</a:t>
            </a:r>
            <a:r>
              <a:rPr b="0" lang="zh-CN" sz="3200" spc="-1" strike="noStrike">
                <a:solidFill>
                  <a:srgbClr val="000000"/>
                </a:solidFill>
                <a:latin typeface="Arial"/>
              </a:rPr>
              <a:t>配第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最早的提出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表作</a:t>
            </a:r>
            <a:r>
              <a:rPr b="0" lang="en-US" sz="2800" spc="-1" strike="noStrike">
                <a:solidFill>
                  <a:srgbClr val="000000"/>
                </a:solidFill>
                <a:latin typeface="Arial"/>
              </a:rPr>
              <a:t>《</a:t>
            </a:r>
            <a:r>
              <a:rPr b="0" lang="zh-CN" sz="2800" spc="-1" strike="noStrike">
                <a:solidFill>
                  <a:srgbClr val="000000"/>
                </a:solidFill>
                <a:latin typeface="Arial"/>
              </a:rPr>
              <a:t>赋税论</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政治算术</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条标准：公平、简便、节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调税收的经济效果，反对重税负</a:t>
            </a:r>
            <a:endParaRPr b="0" lang="en-US" sz="2800" spc="-1" strike="noStrike">
              <a:solidFill>
                <a:srgbClr val="000000"/>
              </a:solidFill>
              <a:latin typeface="Arial"/>
            </a:endParaRPr>
          </a:p>
        </p:txBody>
      </p:sp>
      <p:pic>
        <p:nvPicPr>
          <p:cNvPr id="204" name="Picture 4" descr="威廉·配第"/>
          <p:cNvPicPr/>
          <p:nvPr/>
        </p:nvPicPr>
        <p:blipFill>
          <a:blip r:embed="rId1"/>
          <a:stretch/>
        </p:blipFill>
        <p:spPr>
          <a:xfrm>
            <a:off x="6588000" y="1844640"/>
            <a:ext cx="197640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7754-D641-47FE-87F4-B6B3EECB2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8" name="PlaceHolder 2"/>
          <p:cNvSpPr>
            <a:spLocks noGrp="1"/>
          </p:cNvSpPr>
          <p:nvPr>
            <p:ph/>
          </p:nvPr>
        </p:nvSpPr>
        <p:spPr>
          <a:xfrm>
            <a:off x="304920" y="1980720"/>
            <a:ext cx="606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将税收原则提到理论高度，明确而系统地加以阐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国富论</a:t>
            </a:r>
            <a:r>
              <a:rPr b="0" lang="en-US" sz="2800" spc="-1" strike="noStrike">
                <a:solidFill>
                  <a:srgbClr val="000000"/>
                </a:solidFill>
                <a:latin typeface="Arial"/>
              </a:rPr>
              <a:t>》</a:t>
            </a:r>
            <a:r>
              <a:rPr b="0" lang="zh-CN" sz="2800" spc="-1" strike="noStrike">
                <a:solidFill>
                  <a:srgbClr val="000000"/>
                </a:solidFill>
                <a:latin typeface="Arial"/>
              </a:rPr>
              <a:t>中提出税收四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确实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便利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少征收费用原则</a:t>
            </a:r>
            <a:endParaRPr b="0" lang="en-US" sz="2400" spc="-1" strike="noStrike">
              <a:solidFill>
                <a:srgbClr val="000000"/>
              </a:solidFill>
              <a:latin typeface="Arial"/>
            </a:endParaRPr>
          </a:p>
        </p:txBody>
      </p:sp>
      <p:pic>
        <p:nvPicPr>
          <p:cNvPr id="209" name="Picture 4" descr="Adam Smith"/>
          <p:cNvPicPr/>
          <p:nvPr/>
        </p:nvPicPr>
        <p:blipFill>
          <a:blip r:embed="rId1"/>
          <a:stretch/>
        </p:blipFill>
        <p:spPr>
          <a:xfrm>
            <a:off x="6443640" y="2133720"/>
            <a:ext cx="214776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56760" y="1213920"/>
            <a:ext cx="419436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Our new Constitution is now established, everything seems to promise it will be durable; but, in this world, </a:t>
            </a:r>
            <a:r>
              <a:rPr b="1" i="1" lang="en-US" sz="3600" spc="-1" strike="noStrike">
                <a:solidFill>
                  <a:srgbClr val="0000ff"/>
                </a:solidFill>
                <a:latin typeface="Times New Roman"/>
                <a:ea typeface="Times New Roman"/>
              </a:rPr>
              <a:t>nothing is certain except death and tax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buClr>
                <a:srgbClr val="0066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4648320" y="1600200"/>
            <a:ext cx="4038480" cy="4781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jamin Frankl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6-1790)</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3BC0-A856-4C58-82A9-8CCCE912A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2" descr="G:\高琳\高琳教学\财政学教案\高琳 财政学 教学\第八章 税收概论\本杰明 富兰克林.jpg"/>
          <p:cNvPicPr/>
          <p:nvPr/>
        </p:nvPicPr>
        <p:blipFill>
          <a:blip r:embed="rId1"/>
          <a:stretch/>
        </p:blipFill>
        <p:spPr>
          <a:xfrm>
            <a:off x="4714920" y="857160"/>
            <a:ext cx="3672000" cy="3925800"/>
          </a:xfrm>
          <a:prstGeom prst="rect">
            <a:avLst/>
          </a:prstGeom>
          <a:ln w="0">
            <a:noFill/>
          </a:ln>
        </p:spPr>
      </p:pic>
      <p:sp>
        <p:nvSpPr>
          <p:cNvPr id="10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 dur="500"/>
                                        <p:tgtEl>
                                          <p:spTgt spid="9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98">
                                            <p:txEl>
                                              <p:pRg st="8" end="8"/>
                                            </p:txEl>
                                          </p:spTgt>
                                        </p:tgtEl>
                                        <p:attrNameLst>
                                          <p:attrName>style.visibility</p:attrName>
                                        </p:attrNameLst>
                                      </p:cBhvr>
                                      <p:to>
                                        <p:strVal val="visible"/>
                                      </p:to>
                                    </p:set>
                                    <p:animEffect filter="fade" transition="in">
                                      <p:cBhvr additive="repl">
                                        <p:cTn id="17" dur="500"/>
                                        <p:tgtEl>
                                          <p:spTgt spid="98">
                                            <p:txEl>
                                              <p:pRg st="8" end="8"/>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DBA1-AEFB-4602-A749-52678761C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格纳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新历史学派代表人物，集税收原则理论大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项九端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政策原则（收入充分、收入弹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经济原则（慎选税源、慎选税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正义原则（普遍原则、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务行政原则（确实、便利、节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F725-DAF1-49F7-9DFB-1B9DE9F47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现代税收原则</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税收原则是在亚当</a:t>
            </a:r>
            <a:r>
              <a:rPr b="0" lang="en-US" sz="2800" spc="-1" strike="noStrike">
                <a:solidFill>
                  <a:srgbClr val="000000"/>
                </a:solidFill>
                <a:latin typeface="Times New Roman"/>
              </a:rPr>
              <a:t>·</a:t>
            </a:r>
            <a:r>
              <a:rPr b="0" lang="zh-CN" sz="2800" spc="-1" strike="noStrike">
                <a:solidFill>
                  <a:srgbClr val="000000"/>
                </a:solidFill>
                <a:latin typeface="宋体"/>
              </a:rPr>
              <a:t>斯密和瓦格纳等人的税收原则基础之上发展起来的，它</a:t>
            </a:r>
            <a:r>
              <a:rPr b="0" lang="zh-CN" sz="2800" spc="-1" strike="noStrike">
                <a:solidFill>
                  <a:srgbClr val="000000"/>
                </a:solidFill>
                <a:latin typeface="Arial"/>
              </a:rPr>
              <a:t>强调应当如何征税来提高经济效率，促进收入的公平分配，</a:t>
            </a:r>
            <a:r>
              <a:rPr b="0" lang="zh-CN" sz="2800" spc="-1" strike="noStrike">
                <a:solidFill>
                  <a:srgbClr val="000000"/>
                </a:solidFill>
                <a:latin typeface="宋体"/>
              </a:rPr>
              <a:t>包括税收的效率原则、公平原则、经济稳定与增长原则等。</a:t>
            </a:r>
            <a:endParaRPr b="0" lang="en-US" sz="2800" spc="-1" strike="noStrike">
              <a:solidFill>
                <a:srgbClr val="000000"/>
              </a:solidFill>
              <a:latin typeface="Arial"/>
            </a:endParaRPr>
          </a:p>
          <a:p>
            <a:pPr lvl="1" marL="743040" indent="-285840">
              <a:lnSpc>
                <a:spcPct val="11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效率原则：</a:t>
            </a:r>
            <a:r>
              <a:rPr b="0" lang="zh-CN" sz="2400" spc="-1" strike="noStrike">
                <a:solidFill>
                  <a:srgbClr val="000000"/>
                </a:solidFill>
                <a:latin typeface="仿宋_GB2312"/>
              </a:rPr>
              <a:t>税收应有助于实现资源的有效配置</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平原则：</a:t>
            </a:r>
            <a:r>
              <a:rPr b="0" lang="zh-CN" sz="2400" spc="-1" strike="noStrike">
                <a:solidFill>
                  <a:srgbClr val="000000"/>
                </a:solidFill>
                <a:latin typeface="仿宋_GB2312"/>
              </a:rPr>
              <a:t>税收应有助于实现收入的公平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原则：</a:t>
            </a:r>
            <a:r>
              <a:rPr b="0" lang="zh-CN" sz="2400" spc="-1" strike="noStrike">
                <a:solidFill>
                  <a:srgbClr val="000000"/>
                </a:solidFill>
                <a:latin typeface="仿宋_GB2312"/>
              </a:rPr>
              <a:t>税收应有助于实现宏观经济的稳定运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1CDF-BAD7-4FA4-B3B9-D5912FD11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Object 5"/>
          <p:cNvGraphicFramePr/>
          <p:nvPr/>
        </p:nvGraphicFramePr>
        <p:xfrm>
          <a:off x="611280" y="620640"/>
          <a:ext cx="7921440" cy="5186520"/>
        </p:xfrm>
        <a:graphic>
          <a:graphicData uri="http://schemas.openxmlformats.org/presentationml/2006/ole">
            <p:oleObj r:id="rId1" spid="">
              <p:embed/>
              <p:pic>
                <p:nvPicPr>
                  <p:cNvPr id="223" name="Object 5" descr=""/>
                  <p:cNvPicPr/>
                  <p:nvPr/>
                </p:nvPicPr>
                <p:blipFill>
                  <a:blip r:embed="rId2"/>
                  <a:stretch/>
                </p:blipFill>
                <p:spPr>
                  <a:xfrm>
                    <a:off x="611280" y="620640"/>
                    <a:ext cx="7921440" cy="51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A0D1-62D5-4093-8B07-C4CBB3C46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效率原则</a:t>
            </a:r>
            <a:endParaRPr b="0" lang="en-US" sz="4400" spc="-1" strike="noStrike">
              <a:solidFill>
                <a:srgbClr val="cc3300"/>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财政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中性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2E8F-2D80-4CE0-B5DE-81FCE8468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财政原则</a:t>
            </a:r>
            <a:endParaRPr b="0" lang="en-US" sz="4400" spc="-1" strike="noStrike">
              <a:solidFill>
                <a:srgbClr val="cc3300"/>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财政原则是税收的最基本原则 </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包含两层含义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充分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弹性原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4CF3-71A1-40DC-9F45-5F99B2490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充分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的充分性是指税收应当能够为政府活动提供充实的资金，保证政府提供公共服务的需要。</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课税的目的在于为公共产品的提供筹集资金，因此，税收的充分性取决于它是否能够满足提供适当规模的公共产品的需要，或者说，取决于它是否有助于改进公共产品与私人产品之间的配置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0D65-7D6B-4864-B8A6-02F62A815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p:nvPr>
        </p:nvSpPr>
        <p:spPr>
          <a:xfrm>
            <a:off x="250920" y="184428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充分原则 </a:t>
            </a:r>
            <a:endParaRPr b="0" lang="en-US" sz="32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Object 5"/>
          <p:cNvGraphicFramePr/>
          <p:nvPr/>
        </p:nvGraphicFramePr>
        <p:xfrm>
          <a:off x="1042920" y="765000"/>
          <a:ext cx="6912000" cy="4472280"/>
        </p:xfrm>
        <a:graphic>
          <a:graphicData uri="http://schemas.openxmlformats.org/presentationml/2006/ole">
            <p:oleObj r:id="rId1" spid="">
              <p:embed/>
              <p:pic>
                <p:nvPicPr>
                  <p:cNvPr id="241" name="Object 5" descr=""/>
                  <p:cNvPicPr/>
                  <p:nvPr/>
                </p:nvPicPr>
                <p:blipFill>
                  <a:blip r:embed="rId2"/>
                  <a:stretch/>
                </p:blipFill>
                <p:spPr>
                  <a:xfrm>
                    <a:off x="1042920" y="765000"/>
                    <a:ext cx="6912000" cy="44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1AE3-7294-407E-9EEC-AB7FED790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弹性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有弹性是指税收收入应当能够随着国民收入的增长而增长，以满足长期的公私产品组合效率的要求</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E7EB-6A91-43AE-9D10-B296183A40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24000" y="1773000"/>
            <a:ext cx="8540640" cy="387828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弹性原则</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0" name="Object 5"/>
          <p:cNvGraphicFramePr/>
          <p:nvPr/>
        </p:nvGraphicFramePr>
        <p:xfrm>
          <a:off x="1258920" y="836640"/>
          <a:ext cx="6335640" cy="4516560"/>
        </p:xfrm>
        <a:graphic>
          <a:graphicData uri="http://schemas.openxmlformats.org/presentationml/2006/ole">
            <p:oleObj r:id="rId1" spid="">
              <p:embed/>
              <p:pic>
                <p:nvPicPr>
                  <p:cNvPr id="251" name="Object 5" descr=""/>
                  <p:cNvPicPr/>
                  <p:nvPr/>
                </p:nvPicPr>
                <p:blipFill>
                  <a:blip r:embed="rId2"/>
                  <a:stretch/>
                </p:blipFill>
                <p:spPr>
                  <a:xfrm>
                    <a:off x="1258920" y="836640"/>
                    <a:ext cx="633564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F434-379D-47EB-80F3-FAFE02D4D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收中性原则</a:t>
            </a:r>
            <a:endParaRPr b="0" lang="en-US"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中性原则（</a:t>
            </a:r>
            <a:r>
              <a:rPr b="0" lang="en-US" sz="3200" spc="-1" strike="noStrike">
                <a:solidFill>
                  <a:srgbClr val="000000"/>
                </a:solidFill>
                <a:latin typeface="楷体_GB2312"/>
              </a:rPr>
              <a:t>tax neutrality</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政府课税不应干扰或扭曲市场机制的正常运行，或者说不影响私人经济部门原有的资源配置状况。</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的无谓损失（</a:t>
            </a:r>
            <a:r>
              <a:rPr b="0" lang="en-US" sz="3200" spc="-1" strike="noStrike">
                <a:solidFill>
                  <a:srgbClr val="000000"/>
                </a:solidFill>
                <a:latin typeface="楷体_GB2312"/>
              </a:rPr>
              <a:t>dead-weight loss</a:t>
            </a:r>
            <a:r>
              <a:rPr b="0" lang="zh-CN" sz="3200" spc="-1" strike="noStrike">
                <a:solidFill>
                  <a:srgbClr val="000000"/>
                </a:solidFill>
                <a:latin typeface="楷体_GB2312"/>
              </a:rPr>
              <a:t>）或超额负担（</a:t>
            </a:r>
            <a:r>
              <a:rPr b="0" lang="en-US" sz="3200" spc="-1" strike="noStrike">
                <a:solidFill>
                  <a:srgbClr val="000000"/>
                </a:solidFill>
                <a:latin typeface="楷体_GB2312"/>
              </a:rPr>
              <a:t>excess burde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因课税而带来的净损失或额外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0151-F828-4395-94C4-47058FCA5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在历史上也称为税、租税、赋税或捐税，它是国家为向社会提供公共品，凭借行政权力，按照法定标准，向居民和经济组织强制、无偿地征收取得的财政收入。</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特征：强制性、无偿性、固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72BC-CFEA-4688-BCF3-AA699BD0D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中性税收（</a:t>
            </a:r>
            <a:r>
              <a:rPr b="0" lang="en-US" sz="3200" spc="-1" strike="noStrike">
                <a:solidFill>
                  <a:srgbClr val="000000"/>
                </a:solidFill>
                <a:latin typeface="楷体_GB2312"/>
              </a:rPr>
              <a:t>neutral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不改变市场中的各种相对价格，从而不干扰私人部门的经济决策，不会导致超额负担的税收。</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扭曲性税收（</a:t>
            </a:r>
            <a:r>
              <a:rPr b="0" lang="en-US" sz="3200" spc="-1" strike="noStrike">
                <a:solidFill>
                  <a:srgbClr val="000000"/>
                </a:solidFill>
                <a:latin typeface="楷体_GB2312"/>
              </a:rPr>
              <a:t>distortionary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产生超额负担的税收。</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8238-46E1-4377-B8D7-4AC648268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a:t>
            </a:r>
            <a:r>
              <a:rPr b="0" lang="en-US" sz="3200" spc="-1" strike="noStrike">
                <a:solidFill>
                  <a:srgbClr val="000000"/>
                </a:solidFill>
                <a:latin typeface="楷体_GB2312"/>
              </a:rPr>
              <a:t>lump sum tax</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纳税义务不因纳税人经济行为的改变而改变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会产生超额负担。</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种税之所以会产生超额负担，根本原因还在于替代效应。而总额税则是一种只会带来收入效应而不产生替代效应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但它具有明显的不公平性，没有得到广泛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45DF-2820-4E8C-8C47-92B9D4C6A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务行政效率原则</a:t>
            </a:r>
            <a:endParaRPr b="0" lang="en-US" sz="4400" spc="-1" strike="noStrike">
              <a:solidFill>
                <a:srgbClr val="cc3300"/>
              </a:solidFill>
              <a:latin typeface="Arial"/>
            </a:endParaRPr>
          </a:p>
        </p:txBody>
      </p:sp>
      <p:sp>
        <p:nvSpPr>
          <p:cNvPr id="267" name="PlaceHolder 2"/>
          <p:cNvSpPr>
            <a:spLocks noGrp="1"/>
          </p:cNvSpPr>
          <p:nvPr>
            <p:ph/>
          </p:nvPr>
        </p:nvSpPr>
        <p:spPr>
          <a:xfrm>
            <a:off x="468360" y="1557360"/>
            <a:ext cx="8067600" cy="3532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成本</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因征税而发生的资源耗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为了使社会资源得到更加有效的配置，应当使税收成本最小化，这就是税务行政效率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税务行政效率的高低一般通过一定时期的直接税成本与入库的税收收入之比来衡量。</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比率越低，表明税务行政效率越高；反之则反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94EA-B436-4CA1-B762-692FA44DB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构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征管成本（</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税务当局为征税而发生的各类费用，如办公大楼的建造费、办公设备和用品的购置费、税务人员的工资和津贴等。</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遵从成本（</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纳税人为履行纳税义务而发生的各类费用，如保持簿记资料的费用，申报、缴纳税款的费用，进行税务和会计咨询的费用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BE40-E17A-4B5E-B5EB-9883351D3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75" name="PlaceHolder 2"/>
          <p:cNvSpPr>
            <a:spLocks noGrp="1"/>
          </p:cNvSpPr>
          <p:nvPr>
            <p:ph/>
          </p:nvPr>
        </p:nvSpPr>
        <p:spPr>
          <a:xfrm>
            <a:off x="356760" y="1341360"/>
            <a:ext cx="809964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决定因素</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环境：指影响税制正常运行的各种外部条件，如收入申报制度、财产登记制度、结算制度、计算机应用程度、财会建账状况、公民纳税意识、法治化程度等。</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制度：一般说来，商品税、财产税的税收成本低于所得税，从量税的税收成本低于从价税，比例税的税收成本低于累进税，公司税的税收成本低于个人税。此外，中央集中管理的税收成本低于分级分散管理；单一环节的税收比多环节的税收成本低；等等</a:t>
            </a:r>
            <a:r>
              <a:rPr b="0" lang="zh-CN" sz="2800" spc="-1" strike="noStrike">
                <a:solidFill>
                  <a:srgbClr val="000000"/>
                </a:solidFill>
                <a:latin typeface="楷体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9E8A-CC15-4F40-9263-0331F416B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税收的公平原则</a:t>
            </a:r>
            <a:endParaRPr b="0" lang="en-US" sz="4800" spc="-1" strike="noStrike">
              <a:solidFill>
                <a:srgbClr val="cc3300"/>
              </a:solidFill>
              <a:latin typeface="Arial"/>
            </a:endParaRPr>
          </a:p>
        </p:txBody>
      </p:sp>
      <p:sp>
        <p:nvSpPr>
          <p:cNvPr id="279" name="PlaceHolder 2"/>
          <p:cNvSpPr>
            <a:spLocks noGrp="1"/>
          </p:cNvSpPr>
          <p:nvPr>
            <p:ph/>
          </p:nvPr>
        </p:nvSpPr>
        <p:spPr>
          <a:xfrm>
            <a:off x="499680" y="2060640"/>
            <a:ext cx="7456680" cy="347184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与纵向公平</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纳税能力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两种衡量标准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7E7D-06E0-4271-A3A0-9FA5770ED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574560" y="698040"/>
            <a:ext cx="79963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横向公平与纵向公平</a:t>
            </a:r>
            <a:endParaRPr b="0" lang="en-US" sz="4400" spc="-1" strike="noStrike">
              <a:solidFill>
                <a:srgbClr val="cc3300"/>
              </a:solidFill>
              <a:latin typeface="Arial"/>
            </a:endParaRPr>
          </a:p>
        </p:txBody>
      </p:sp>
      <p:sp>
        <p:nvSpPr>
          <p:cNvPr id="283" name="PlaceHolder 2"/>
          <p:cNvSpPr>
            <a:spLocks noGrp="1"/>
          </p:cNvSpPr>
          <p:nvPr>
            <p:ph/>
          </p:nvPr>
        </p:nvSpPr>
        <p:spPr>
          <a:xfrm>
            <a:off x="468360" y="1844640"/>
            <a:ext cx="7772400" cy="41148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应具有横向公平和纵向公平 </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a:t>
            </a:r>
            <a:r>
              <a:rPr b="0" lang="en-US" sz="3200" spc="-1" strike="noStrike">
                <a:solidFill>
                  <a:srgbClr val="000000"/>
                </a:solidFill>
                <a:latin typeface="楷体_GB2312"/>
              </a:rPr>
              <a:t>horizontal equity</a:t>
            </a:r>
            <a:r>
              <a:rPr b="0" lang="zh-CN" sz="3200" spc="-1" strike="noStrike">
                <a:solidFill>
                  <a:srgbClr val="000000"/>
                </a:solidFill>
                <a:latin typeface="楷体_GB2312"/>
              </a:rPr>
              <a:t>）：指福利水平相同的人应缴纳相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纵向公平（</a:t>
            </a:r>
            <a:r>
              <a:rPr b="0" lang="en-US" sz="3200" spc="-1" strike="noStrike">
                <a:solidFill>
                  <a:srgbClr val="000000"/>
                </a:solidFill>
                <a:latin typeface="楷体_GB2312"/>
              </a:rPr>
              <a:t>vertical equity</a:t>
            </a:r>
            <a:r>
              <a:rPr b="0" lang="zh-CN" sz="3200" spc="-1" strike="noStrike">
                <a:solidFill>
                  <a:srgbClr val="000000"/>
                </a:solidFill>
                <a:latin typeface="楷体_GB2312"/>
              </a:rPr>
              <a:t>）：指福利水平不同的人应缴纳不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公平原则大体可以概括为两类 </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受益原则</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纳税能力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6969-9502-4171-AD21-8063C8726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受益原则</a:t>
            </a:r>
            <a:endParaRPr b="0" lang="en-US" sz="4400" spc="-1" strike="noStrike">
              <a:solidFill>
                <a:srgbClr val="cc3300"/>
              </a:solidFill>
              <a:latin typeface="Arial"/>
            </a:endParaRPr>
          </a:p>
        </p:txBody>
      </p:sp>
      <p:sp>
        <p:nvSpPr>
          <p:cNvPr id="287" name="PlaceHolder 2"/>
          <p:cNvSpPr>
            <a:spLocks noGrp="1"/>
          </p:cNvSpPr>
          <p:nvPr>
            <p:ph/>
          </p:nvPr>
        </p:nvSpPr>
        <p:spPr>
          <a:xfrm>
            <a:off x="324000" y="1484280"/>
            <a:ext cx="8540640" cy="42703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r>
              <a:rPr b="0" lang="en-US" sz="3200" spc="-1" strike="noStrike">
                <a:solidFill>
                  <a:srgbClr val="000000"/>
                </a:solidFill>
                <a:latin typeface="楷体_GB2312"/>
              </a:rPr>
              <a:t>benefit principle</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要求每个人所承担的税负应当与他从公共产品中的受益相一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意味着从公共产品中获益相同的人应缴纳相同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而纵向公平意味着受益多的多纳税，受益少的则少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BF8D-4A35-44F7-A4D1-AB4AB78FF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301680" y="5554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91" name="PlaceHolder 2"/>
          <p:cNvSpPr>
            <a:spLocks noGrp="1"/>
          </p:cNvSpPr>
          <p:nvPr>
            <p:ph/>
          </p:nvPr>
        </p:nvSpPr>
        <p:spPr>
          <a:xfrm>
            <a:off x="500040" y="1268280"/>
            <a:ext cx="8099280" cy="41148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益原则的分类</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一般受益原则：如果收入相同的纳税人有相近的偏好，在一般受益原则下，税收制度就取决于公共产品需求的收入弹性和价格弹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特殊受益原则：要求对政府服务的特定使用者课征税收或收取费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间接替代征收原则：直接衡量纳税人从某种政府服务中得到多少利益存在技术上的困难，在许多场合下人们以间接替代的方式实现受益原则。例如，采用征收汽油税、汽车税和其他汽车产品税，作为对公路使用的间接替代征收。</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238-2D3E-4B8F-AF8E-C1C0D824F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纳税能力原则</a:t>
            </a:r>
            <a:endParaRPr b="0" lang="en-US" sz="4400" spc="-1" strike="noStrike">
              <a:solidFill>
                <a:srgbClr val="cc3300"/>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纳税能力原则</a:t>
            </a:r>
            <a:r>
              <a:rPr b="0" lang="en-US" sz="3200" spc="-1" strike="noStrike">
                <a:solidFill>
                  <a:srgbClr val="000000"/>
                </a:solidFill>
                <a:latin typeface="楷体_GB2312"/>
              </a:rPr>
              <a:t>(ability-to-pay principle)</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根据每个人纳税能力的大小来确定其应当承担的税收。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可以解释为具有相同纳税能力的人应缴纳同等的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纵向公平可以解释为具有不同纳税能力的人缴纳不同的税，也即，纳税能力大的人多纳税，纳税能力小的人少纳税，无纳税能力的人不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B712-CB50-4BE8-AD1E-020DEE99A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要素</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构成税收制度的基本因素（向谁征税、对什么征税、征多少税、如何征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税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环节</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E4CB-F53E-428C-B837-2CF4DD572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衡量纳税能力的最优标准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客观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主观说</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BC39-539B-4F10-A507-BB8E57A69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说</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以个人拥有财富的多少，作为测度其纳税能力的标准。</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财富的表示方式</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收入</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消费</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7975-8995-477A-8E52-AB3114952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307" name="PlaceHolder 2"/>
          <p:cNvSpPr>
            <a:spLocks noGrp="1"/>
          </p:cNvSpPr>
          <p:nvPr>
            <p:ph/>
          </p:nvPr>
        </p:nvSpPr>
        <p:spPr>
          <a:xfrm>
            <a:off x="324000" y="1197000"/>
            <a:ext cx="842472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收入作为衡量纳税能力标准的优缺点</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收入通常被认为是衡量纳税人的纳税能力的最好标准。因为收入体现了一定时期内纳税人对经济资源的支配权，最能决定纳税人在特定时期内的消费或增添其财富的能力。</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缺点：应当如何确定收入的统计口径？</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单个人的收入为标准还是以家庭平均收入为标准？</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货币收入为标准还是以经济收入为标准？ </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毛收入为标准还是以净收入为标准？</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6D51-B01C-4A8F-9CE1-A853411BE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5564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1" name="PlaceHolder 2"/>
          <p:cNvSpPr>
            <a:spLocks noGrp="1"/>
          </p:cNvSpPr>
          <p:nvPr>
            <p:ph/>
          </p:nvPr>
        </p:nvSpPr>
        <p:spPr>
          <a:xfrm>
            <a:off x="428760" y="1052280"/>
            <a:ext cx="8029440" cy="50432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费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反映着一个人对经济资源的使用，消费者多的人表明他使用了较多的社会资源和得到更大的利益，自然应当缴纳更多的税收。</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对消费品征税，有助于抑制消费，鼓励投资，从而有助于促进经济增长。</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同个人的消费倾向可能不同，假如都以消费支出数字来确定纳税能力的话，也会产生不公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FB98-9195-4087-BBF8-D7C36484C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5" name="PlaceHolder 2"/>
          <p:cNvSpPr>
            <a:spLocks noGrp="1"/>
          </p:cNvSpPr>
          <p:nvPr>
            <p:ph/>
          </p:nvPr>
        </p:nvSpPr>
        <p:spPr>
          <a:xfrm>
            <a:off x="250920" y="1052640"/>
            <a:ext cx="8540640" cy="4270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代表着纳税人对其所拥有的经济资源的独立支配权，反映着个人的经济能力。</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可以利用财产赚取收入，或者通过获得遗产、赠予等使财富增加，增强其纳税能力。</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额相等的财产未必会给纳税人带来相同的收益；</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财产的纳税人中，负债者与无债者情况不同，财产中的不动产与动产情况也不同；</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种类繁多，实践上难以查实和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6673-B4E3-43E6-9865-7FD96AEF6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9" name="PlaceHolder 2"/>
          <p:cNvSpPr>
            <a:spLocks noGrp="1"/>
          </p:cNvSpPr>
          <p:nvPr>
            <p:ph/>
          </p:nvPr>
        </p:nvSpPr>
        <p:spPr>
          <a:xfrm>
            <a:off x="213840" y="1571400"/>
            <a:ext cx="85410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主观说</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纳税能力应以每个人因纳税而感受的牺牲程度为标准。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征税使每一个人所感受的牺牲程度相同，税制就是公平的，否则就不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效用牺牲的三种理论</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绝对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比例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边际牺牲</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17E3-C354-4016-BC64-4C2D62B6C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绝对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指每个纳税人因纳税而牺牲的总效用相等，在全部效用中都受到相同的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07A1-3292-4A59-B2E8-F82281E2A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324000" y="155700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均等牺牲的衡量</a:t>
            </a:r>
            <a:endParaRPr b="0" lang="en-US" sz="32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8" name="Object 5"/>
          <p:cNvGraphicFramePr/>
          <p:nvPr/>
        </p:nvGraphicFramePr>
        <p:xfrm>
          <a:off x="611280" y="757080"/>
          <a:ext cx="8281800" cy="4327560"/>
        </p:xfrm>
        <a:graphic>
          <a:graphicData uri="http://schemas.openxmlformats.org/presentationml/2006/ole">
            <p:oleObj r:id="rId1" spid="">
              <p:embed/>
              <p:pic>
                <p:nvPicPr>
                  <p:cNvPr id="329" name="Object 5" descr=""/>
                  <p:cNvPicPr/>
                  <p:nvPr/>
                </p:nvPicPr>
                <p:blipFill>
                  <a:blip r:embed="rId2"/>
                  <a:stretch/>
                </p:blipFill>
                <p:spPr>
                  <a:xfrm>
                    <a:off x="611280" y="757080"/>
                    <a:ext cx="828180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1D05-B2AF-4996-905A-08F9CDA21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均等比例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每个纳税人因纳税而牺牲的效用要与其税前总效用之比就相同。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不变，均等比例牺牲要求征收比例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递减，要求课征累进税。</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8AD2-D6BF-4F06-B95F-B9CFA4811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7"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每个纳税人在纳税之后的最后一个单位货币收入的效用应当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称最小牺牲，因为假如每个纳税人的边际牺牲均等，全社会因纳税而受到的效用损失之和就最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边际效用不变，那么既定的税收总量不会使效用损失之和发生变化。</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当边际效用递减时，实现最小牺牲就意味着，先向高收入者征税，在每个人的税后收入相等后，再向每个人征收等量的税收，直到获得所需的税收为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EC35-5F54-4A86-A325-B03D5A05E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人（</a:t>
            </a:r>
            <a:r>
              <a:rPr b="0" lang="en-US" sz="3200" spc="-1" strike="noStrike">
                <a:solidFill>
                  <a:srgbClr val="000000"/>
                </a:solidFill>
                <a:latin typeface="Arial"/>
              </a:rPr>
              <a:t>tax payer</a:t>
            </a:r>
            <a:r>
              <a:rPr b="0" lang="zh-CN" sz="3200" spc="-1" strike="noStrike">
                <a:solidFill>
                  <a:srgbClr val="000000"/>
                </a:solidFill>
                <a:latin typeface="Arial"/>
              </a:rPr>
              <a:t>）：法律规定的直接负有纳税义务的单位和个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人纳税人：包括自然人个人和自然人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人纳税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税人（</a:t>
            </a:r>
            <a:r>
              <a:rPr b="0" lang="en-US" sz="3200" spc="-1" strike="noStrike">
                <a:solidFill>
                  <a:srgbClr val="000000"/>
                </a:solidFill>
                <a:latin typeface="Arial"/>
              </a:rPr>
              <a:t>tax bearer</a:t>
            </a:r>
            <a:r>
              <a:rPr b="0" lang="zh-CN" sz="3200" spc="-1" strike="noStrike">
                <a:solidFill>
                  <a:srgbClr val="000000"/>
                </a:solidFill>
                <a:latin typeface="Arial"/>
              </a:rPr>
              <a:t>）：实际承担税负的个人或企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365B-3402-46BD-BDA4-82FFF1535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的利弊</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均等边际牺牲使得税收具有极强的累进性，从收入分配的角度看，这有助于消除贫富差别；</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但从生产的角度看，如果人们知道各自的收入将通过税收平均化，他们的工作积极性就会受到影响，这将有损于效率。</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34B9-53A9-4F28-8448-EE5B68953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两种衡量标准的权衡</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衡量税收公平的标准看，受益原则和纳税能力原则各有其优点，但这两种原则都不能单独解释税制设计的全部问题，也不能单独地实现税收政策的全部职能。因此，公平的税收制度的设计有赖于两个原则的配合使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技术上看，两个原则的真正实现都存在一定困难。尽管二者各有其缺陷，但两个原则的配合运用，能够为公平税制的设计提供较为理想的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4BF1-CA82-4AD1-B8EA-003A88412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税基（广义税基）：从宏观角度考察，可把整个税基归为以下几大类</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收入为税基：如各种所得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消费为税基：如各种商品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财产为税基：如各种财产税</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DA40-D0A1-42CB-AC2B-BAF58F4A8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律上的税基（中义税基）：</a:t>
            </a:r>
            <a:r>
              <a:rPr b="0" lang="zh-CN" sz="2800" spc="-1" strike="noStrike">
                <a:solidFill>
                  <a:srgbClr val="000000"/>
                </a:solidFill>
                <a:latin typeface="楷体_GB2312"/>
              </a:rPr>
              <a:t>是指具体税种的课税基础，也可称为课税对象。是从微观角度进行考察，是确定税种的主要标志，也是税收分类的主要依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目：对课税对象的具体说明和界定。</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现仅就一些典型税种的课税基础进行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66EC-12AE-4E7E-9CC7-EA9F043208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560" y="1980720"/>
            <a:ext cx="865980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销售额为课税基础。主要有销售税、消费税、营业税等税种。</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增值额为课税基础。主要有增值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企业利润为课税基础。主要有企业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个人收入为课税基础。主要有个人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工资额为课税基础。主要有工薪税或社会保险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财产价值额为课税基础。主要有财产税和财产转移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3:24:31Z</dcterms:created>
  <dc:creator>admin</dc:creator>
  <dc:description/>
  <dc:language>en-US</dc:language>
  <cp:lastModifiedBy>杨海燕</cp:lastModifiedBy>
  <dcterms:modified xsi:type="dcterms:W3CDTF">2016-09-15T11:51:57Z</dcterms:modified>
  <cp:revision>35</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